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C063-DBC6-4BDE-BA0B-EA94C8E74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D3F4-97D7-495D-A2F6-37EAE8373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ill Richardson say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AE9-895B-4FA1-8778-9E84F7C04E7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3EE8-69D4-4287-9E82-6A2AE3D1B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F68-F1F0-4C5A-9F5F-1E66AC9E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538-82E3-4BA6-9A1A-0895E6A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604-3FC4-4A76-B30D-0511CFC4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D82-4DF1-45BC-BA2D-840144F4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7FBF-4ED5-45E8-B2E9-3B75A5C9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5C7D-F631-470F-AFFF-4758C8EA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445A-6E06-4009-986D-06AB6C0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4864-5112-4F78-BF5C-BABEF67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CF53-74C7-4339-B57C-AD972A3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9F42-6DAE-4AC6-8E6B-29A18A1C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529E-C8C3-4971-B974-8B6E8BE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B04-639E-4006-99C7-1DCE83B5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43B-047B-46C2-943D-50AB67AC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5B9-2635-4539-B110-C7E7A4E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BBE4-AE26-4E86-8C3D-31FAF8E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D2A-705E-45B3-AB9F-07D722E7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EDE3-BB54-46CF-A60C-78256092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0084-D592-498A-9E5E-81502DD4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79D2-AACB-4FC1-B36D-9CBDDDC4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26FE-5666-457E-B169-803CB5F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F172-B125-4E10-90ED-E06324E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FB3D-20C7-4CEE-9221-0D7358FD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17C-AFB2-47F1-980C-3D50A15B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6D97-131B-40E7-94A6-8A6940DE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4F18-2EE4-4C2E-A781-93B1A4D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4A2B-91D1-4D8C-B5A8-4245B3B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86BE-C599-4A84-BFF1-25129D2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2738-5DF0-4903-A3C6-A53BD2D7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D197-A127-40AD-9738-F80BE151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F86D-3D6F-4481-864A-26248701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CE4C-F634-4041-9DB0-C095B419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08C8-E630-415F-A732-8CC3DDA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F8C2-1238-40A4-B91B-82E3C74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35F-95B5-499B-AEA1-93E12C0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C634-387F-4EAA-ACBE-75E281E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AA9A-5B8D-4535-81B3-DD8BC9B5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443D-259B-4BD2-8D10-0DF63B6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07CF-4AE3-4BA7-A3A9-6981A34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31BA-F46C-453E-B882-EEADB24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6CCC-83F4-4B8B-8832-2128FA0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954E-5772-4B4B-843B-33EDB57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53BB-06C4-4B1A-B78D-3F385CC4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9249A-84BB-44A7-B59E-1C5125A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0BB2-C608-4138-8C96-F768926B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424-E4E0-4071-899B-B0CA1B5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1078-49CF-4F5E-B952-043F6F0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E3C6D-284D-4EE9-83F1-CFEE0B36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4B4E-E017-45EC-8736-6BA6374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FF68-6E25-4B03-BEBD-2926EC56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FAA5-54D8-4873-B059-AEFD28D7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37E4-F6D6-4E7A-BCBD-6B1196D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6964-A265-442B-9B54-0B60511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B1DC-25A8-4C87-BE06-0EA2A69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AA2A4-F328-4143-A33A-3F15E7AF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1C271-3AE6-4A8F-A929-48A65EDC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0E0-9BEA-4E13-AD5B-C2A1B880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D0C3-9129-46FC-B637-6B773C7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732EC-0363-42F5-80A7-03C86ECC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7E92-B6C6-440E-B4A1-E979039C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2CBE-B06A-4076-8BB1-7187FF9D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EF31-4F37-4C6B-BC93-47C4ED2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ADB1-BF6C-4183-8B0D-FCDE488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00B0-436F-47A4-84B6-5E11958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CB1D-B44C-4DB8-BDE3-2F623B4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C422-D266-4805-86FC-4BA1519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70CC-13A8-4B93-BEE1-DBD62146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4C8-818D-4E5B-A4C8-F9758892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F71A-6887-4EA6-B74D-EEDE6E9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6448-7C8B-4003-A205-70DD85A8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DA90-F047-4F35-9E2F-33252859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D3297-336A-41AB-AF1A-1A18EE7B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A813-280B-43B9-9753-0086CE6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B1203-9A92-4AB0-B899-A69505D4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0FE30-C02D-4861-81C9-4BEAF4E3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2F52-7B0F-4642-8544-6BC6ACB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4B5A6-9064-4464-B9E0-C7AFAB6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58AF2-1597-48A7-9DF1-47CDB6A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AFE-7BA2-4DA1-BF77-8A93A66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1564-7407-4FD7-82C8-4AFB0808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A79F-DFD6-4411-A51B-413F14F8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15705-1BC6-4C5B-9495-B87B020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B14D-B8A8-4ECE-834C-F2CC693E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7982-1EBC-4644-9BF8-CCE0F765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1F6-FCDB-4EFC-92CB-263DAE4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1D7-B26E-4958-9707-BE326E1CF43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024-A606-4D81-9EE4-66E005C5F6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36E-2820-442A-9A07-4017B37333C9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4CA0-1B22-4449-ABAB-D93C7E58BE8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8C4D-82E9-4B6E-A99E-AAF8CFE4427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176E-D9AA-4CBE-B653-90DC41195F8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FC14-3747-4A08-B949-296FBD106E8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A16-D441-4C0E-BC12-1EFF8E7F747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B6A-79B5-4E59-AFC8-032539507AD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FCAF-22B3-4658-8416-A85E733F34C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BE2-D915-4FE9-8B89-B137A129598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E34-7918-4A8E-B799-4CC99E9DDD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AB6D-858C-44E4-86BE-21E9B5D95EC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2BA2-91BE-4AFE-8FC4-D7BBED2576E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dubuque.k12.ia.us/cartoons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3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aula Walser, Director of E- Learning, CESA 6 , Oshkosh, Wiscons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Learner 2.0.png"/>
          <p:cNvPicPr/>
          <p:nvPr/>
        </p:nvPicPr>
        <p:blipFill>
          <a:blip r:embed="rId2"/>
          <a:stretch/>
        </p:blipFill>
        <p:spPr>
          <a:xfrm>
            <a:off x="1219320" y="1335240"/>
            <a:ext cx="65530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-6480" y="590400"/>
            <a:ext cx="8467920" cy="569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4724280" y="2714760"/>
            <a:ext cx="4419720" cy="41432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52280" y="64008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http://www.flickr.com/photos/patrick_q/9817966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12840" y="22860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ll Richardson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osing the Gap – August / September ,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eating a Classroom of Discovery and Wonder by David Davi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5257800" y="152280"/>
            <a:ext cx="3886200" cy="1434600"/>
          </a:xfrm>
          <a:prstGeom prst="rect">
            <a:avLst/>
          </a:prstGeom>
          <a:solidFill>
            <a:srgbClr val="d4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is isn’t Kansas any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2190600" y="25020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2765520" y="1774800"/>
            <a:ext cx="3612960" cy="462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28240" y="1774800"/>
            <a:ext cx="44197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b 2.0 is a term describing changing trends in the use of World Wide Web technology and web design that aims to enhance creativity, secure information sharing, collaboration and functionality of the web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21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reading, Web 2.0 is about writ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companies, Web 2.0 is about communitie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home pages, Web 2.0 is about blog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portals, Web 2.0 is about RS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taxonomy, Web 2.0 is about tag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wires, Web 2.0 is about wirel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ncarta vs Wikipedia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apquests vs Google Maps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IE, Web 2.0 is about FireFox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about dialup, Web 2.0 is about broadband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about lectures, Web 2.0 is about conversations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eb 1.0 was about owning, Web 2.0 is about shar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about Netscape, Web 2.0 is about Google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ost important word on the internet is not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‘Search’.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ost important word on the internet i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‘Share’.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aring is the driver. Sharing is the DN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Hugh MacLe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http://www.gapingvoid.com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Content Placeholder 4" descr="gotoweb.png"/>
          <p:cNvPicPr/>
          <p:nvPr/>
        </p:nvPicPr>
        <p:blipFill>
          <a:blip r:embed="rId2"/>
          <a:stretch/>
        </p:blipFill>
        <p:spPr>
          <a:xfrm>
            <a:off x="1295280" y="1371600"/>
            <a:ext cx="6934320" cy="4925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609480" y="6324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846 logos as of Monday, March 1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3800520" cy="42670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0" y="6309000"/>
            <a:ext cx="914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Gary Olsen, Higher Education</a:t>
            </a:r>
            <a:r>
              <a:rPr b="0" lang="en-US" sz="1400" spc="-1" strike="noStrike">
                <a:solidFill>
                  <a:srgbClr val="996633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3681360" cy="4343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4"/>
          <a:stretch/>
        </p:blipFill>
        <p:spPr>
          <a:xfrm>
            <a:off x="3048120" y="1581120"/>
            <a:ext cx="3333600" cy="52768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5"/>
          <p:cNvSpPr/>
          <p:nvPr/>
        </p:nvSpPr>
        <p:spPr>
          <a:xfrm>
            <a:off x="4572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0:48:23Z</dcterms:created>
  <dc:creator>cesainst</dc:creator>
  <dc:description/>
  <dc:language>en-US</dc:language>
  <cp:lastModifiedBy>BHS</cp:lastModifiedBy>
  <dcterms:modified xsi:type="dcterms:W3CDTF">2010-06-19T23:38:22Z</dcterms:modified>
  <cp:revision>86</cp:revision>
  <dc:subject/>
  <dc:title>Wiggling  your Way Through The Web:2.0</dc:title>
</cp:coreProperties>
</file>